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B60DD-6E2D-4A71-BF46-4CB6D7706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61E15-4493-4312-9F10-394F138D0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EAAEB-2B66-4215-AA5E-A005C1B7C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C1A77-43FB-41E8-8597-4CCEDE69F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DF1BD-92FF-4978-9F60-350AE0AD6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064C5-C291-4FF2-8D58-8F5E3B9C0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780BB-03F8-408E-A1A0-A367657EC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F3219-08B5-4E12-9CAC-0C33E1716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B6C50-87AB-4933-A44D-0E25F7A98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74A22-AA3E-4BAB-9054-DFF169299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DE283-B62F-4C07-B48B-315F2B18A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E116F-F698-4BAF-9EAC-5DE9A1528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7CAEB-DC16-42FD-AECD-82FD2FE8C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31814-44CE-4B30-B512-C8592B7C2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1AD1C-E2A2-44F5-BF30-0D35FDF2E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7FAF2-63EE-4455-9D53-47B9E8AB2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0F646-EB1C-42ED-998D-CECD4F616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165C8-4A5E-4C92-B41E-3A4FDDD99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C321B-B9DF-465F-ABF2-201D7EF33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7D272-00FF-4D80-894C-AF6AA479D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46355-EF81-43B7-9217-8069A349B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D72F0-C8A9-4AF7-BB2D-F193D6C7A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530B9-4297-41AB-8A84-C616462ED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50A29-9ED2-4886-A6FB-7C1E8A0DC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746c4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4c462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7070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a09463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a09463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7a714c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91865a"/>
                </a:gs>
                <a:gs pos="100000">
                  <a:srgbClr val="fdeb9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81785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b6a86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b6a86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796f46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b6a86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b6a86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b6a86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96140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96140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4b462e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4b462e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96140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96140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4b462e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96140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96140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b462e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96140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96140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96140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96140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96140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f6743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f6743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96140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4b462e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DBA1F-BEEE-40D6-BD92-79DA3F51CB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a714c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746c4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4c462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7070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a09463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a09463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7a714c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91865a"/>
                </a:gs>
                <a:gs pos="100000">
                  <a:srgbClr val="fdeb9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81785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b6a86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b6a86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796f46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b6a86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b6a86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b6a86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25b3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25b3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25b3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25b3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91865a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91865a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25b3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A026A-3E32-4CFA-9A82-189000A335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3352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Arial"/>
              </a:rPr>
              <a:t>Lesson 9.6</a:t>
            </a:r>
            <a:br>
              <a:rPr sz="7500"/>
            </a:br>
            <a:r>
              <a:rPr b="0" lang="en-US" sz="7500" spc="-1" strike="noStrike">
                <a:solidFill>
                  <a:srgbClr val="000000"/>
                </a:solidFill>
                <a:latin typeface="Arial"/>
              </a:rPr>
              <a:t>part two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04560" y="274680"/>
            <a:ext cx="8381880" cy="36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a certain state the automobile license plates consist of two letters followed by a four-digit number.  To avoid confusion between “O” and “zero” and “I” and “one”, the letters “O” and “I” are not used. How many distinct license plate numbers can be form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3055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ur Digit Numbers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any four-digit numbers can be formed under the following conditions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leading digit cannot be ze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leading digit cannot be zero and no repetitions of digits is allow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leading digit cannot be zero and the number must be less than 50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leading digit cannot be zero and the number must be ev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ombination lock will open when the right choice of three numbers (from 1 to 40, inclusive) is selected.  How many different lock combinations are possi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tinguishable Permu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how many DISTINGUISHABLE ways can the letters in BANANA be writt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how many DISTINGUISHABLE ways can the letters in Alabama be writt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  In how many ways can a committee of three men and four women be selected from a group of five men and ten wome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057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Arial"/>
              </a:rPr>
              <a:t>Homework:</a:t>
            </a:r>
            <a:br>
              <a:rPr sz="6500"/>
            </a:br>
            <a:r>
              <a:rPr b="0" lang="en-US" sz="6500" spc="-1" strike="noStrike">
                <a:solidFill>
                  <a:srgbClr val="000000"/>
                </a:solidFill>
                <a:latin typeface="Arial"/>
              </a:rPr>
              <a:t>Page 672</a:t>
            </a:r>
            <a:br>
              <a:rPr sz="6500"/>
            </a:br>
            <a:r>
              <a:rPr b="0" lang="en-US" sz="6500" spc="-1" strike="noStrike">
                <a:solidFill>
                  <a:srgbClr val="000000"/>
                </a:solidFill>
                <a:latin typeface="Arial"/>
              </a:rPr>
              <a:t>#33-39,43-53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5T12:33:42Z</dcterms:created>
  <dc:creator>jnewman</dc:creator>
  <dc:description/>
  <dc:language>en-US</dc:language>
  <cp:lastModifiedBy>abeason</cp:lastModifiedBy>
  <dcterms:modified xsi:type="dcterms:W3CDTF">2009-04-01T18:11:07Z</dcterms:modified>
  <cp:revision>5</cp:revision>
  <dc:subject/>
  <dc:title>Lesson 9.6 part two</dc:title>
</cp:coreProperties>
</file>